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F44-D117-43C9-9F1E-43B0F86E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CEB-09C2-4B64-AEAF-8F8CF74E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2AD-63FD-4602-9F29-B112B8E0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4D6-E8E0-480A-A844-63609F6D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286-D977-40CA-A683-ECD34E85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F8D-BC14-447A-BCF0-4153EF4D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1BC-9C49-4266-9F7C-E5C7CFDD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027-BADE-4DE3-B6B2-2E23C4AF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8B5-C8A1-411C-9B9F-B7F11BE0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EB4-6E9A-4CA1-8803-423558AE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65C-9965-4E65-8C6B-F19FBB0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F38-8E7E-4D8C-A01B-416DEC48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930-E38E-4BCB-BC23-583228FCA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643800" cy="1523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10364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2971800"/>
            <a:ext cx="8534160" cy="252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2057400"/>
            <a:ext cx="1218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4726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05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4:14Z</dcterms:created>
  <dc:creator>Graham</dc:creator>
  <dc:description/>
  <dc:language>en-US</dc:language>
  <cp:lastModifiedBy>Graham</cp:lastModifiedBy>
  <dcterms:modified xsi:type="dcterms:W3CDTF">2012-09-30T18:34:18Z</dcterms:modified>
  <cp:revision>1</cp:revision>
  <dc:subject/>
  <dc:title>Slide 1</dc:title>
</cp:coreProperties>
</file>